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F35B-5611-4B24-9958-81E83F18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5F04-94CE-4F79-BFD9-9733D90A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13D3-1D71-4C93-85FC-52350784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0FB9-2B1B-4507-B1D4-83AC34E9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AB31-5A1E-4F5D-9486-382A75A2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4D0D-F522-4B56-A52B-364ABF93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BB65-6EA7-4CE3-A572-079F63DB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036F-FF0B-45B3-B39B-AC192ECE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B04E-CAB9-4F31-A826-CB80E7A9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C53D-FF49-46AA-A06E-BEF549A2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0DDB-52A3-445F-96C1-14A285F7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EE22-6652-4C2D-9975-A4B427F7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4798-B05E-4DEB-80DC-20313419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EA7D-3948-45C0-A489-FBAB4D33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4349-08D6-4137-A316-0873A2F6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9CC7-2D68-4CF3-8DB3-926A3708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0059-30AB-447A-944C-75D8E1B1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151F-FE5D-473D-95FF-ABB21D77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A73E-713F-40A7-BD62-65B1EF5D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7C01-B088-4936-A7D2-BD9566ED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B82B-214F-4689-BE87-D736C7FE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8EAF-5404-4D22-88F4-E964592D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AFFD-21E5-48FD-A8BB-F1057D8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600B-4EE2-4B96-8CE0-DB3FFEE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0898-7760-41AC-B44F-66C4479015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ED47-B0C5-4BEC-8463-735812D3F4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Derek Jeter 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55560" y="4057200"/>
            <a:ext cx="545148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: Brendan Shephe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Majors2"/>
          <p:cNvPicPr/>
          <p:nvPr/>
        </p:nvPicPr>
        <p:blipFill>
          <a:blip r:embed="rId1"/>
          <a:stretch/>
        </p:blipFill>
        <p:spPr>
          <a:xfrm>
            <a:off x="6248520" y="1447920"/>
            <a:ext cx="2849400" cy="3352680"/>
          </a:xfrm>
          <a:prstGeom prst="rect">
            <a:avLst/>
          </a:prstGeom>
          <a:ln w="0">
            <a:noFill/>
          </a:ln>
        </p:spPr>
      </p:pic>
      <p:pic>
        <p:nvPicPr>
          <p:cNvPr id="117" name="03 Boomin'-Opera Trip.wma" descr=""/>
          <p:cNvPicPr/>
          <p:nvPr/>
        </p:nvPicPr>
        <p:blipFill>
          <a:blip r:embed="rId2"/>
          <a:stretch/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ildhoo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ek was born on June 2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974 in Pequannock, New Jers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ek played Basketball and Baseb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erek was 6, he moved to Kalamazoo Michig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dream was to become a Yank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Yankees2.jpg"/>
          <p:cNvPicPr/>
          <p:nvPr/>
        </p:nvPicPr>
        <p:blipFill>
          <a:blip r:embed="rId1"/>
          <a:stretch/>
        </p:blipFill>
        <p:spPr>
          <a:xfrm>
            <a:off x="6781680" y="4952880"/>
            <a:ext cx="1981440" cy="148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igh School and Colle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k went to Kalamazoo Central High School, where he won several a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ter was the 1992 High School Player of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k was the 1992 Gatorade Athlete of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raduating High School, the New York Yankees drafted Derek in June of 19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ent to University of Michigan Col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1993 Most Outstanding Prosp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Michigan.jpg"/>
          <p:cNvPicPr/>
          <p:nvPr/>
        </p:nvPicPr>
        <p:blipFill>
          <a:blip r:embed="rId1"/>
          <a:stretch/>
        </p:blipFill>
        <p:spPr>
          <a:xfrm>
            <a:off x="7848720" y="4838760"/>
            <a:ext cx="1295280" cy="974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ajors3.jpg"/>
          <p:cNvPicPr/>
          <p:nvPr/>
        </p:nvPicPr>
        <p:blipFill>
          <a:blip r:embed="rId2"/>
          <a:stretch/>
        </p:blipFill>
        <p:spPr>
          <a:xfrm>
            <a:off x="0" y="2514600"/>
            <a:ext cx="1754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ino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is first year of the Minor Leagues, He batted .295 with 5 home ru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better next sea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or League Player of the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95 Yankees Shortstop hu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to play in the Majo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Minors.jpg"/>
          <p:cNvPicPr/>
          <p:nvPr/>
        </p:nvPicPr>
        <p:blipFill>
          <a:blip r:embed="rId1"/>
          <a:stretch/>
        </p:blipFill>
        <p:spPr>
          <a:xfrm>
            <a:off x="152280" y="5029200"/>
            <a:ext cx="2057400" cy="166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Yankees2.jpg"/>
          <p:cNvPicPr/>
          <p:nvPr/>
        </p:nvPicPr>
        <p:blipFill>
          <a:blip r:embed="rId2"/>
          <a:stretch/>
        </p:blipFill>
        <p:spPr>
          <a:xfrm>
            <a:off x="6629400" y="47242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Yankees.jpg"/>
          <p:cNvPicPr/>
          <p:nvPr/>
        </p:nvPicPr>
        <p:blipFill>
          <a:blip r:embed="rId3"/>
          <a:stretch/>
        </p:blipFill>
        <p:spPr>
          <a:xfrm>
            <a:off x="6400800" y="380880"/>
            <a:ext cx="2362320" cy="1479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Majo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k’s Major League Debut was on May 2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995 vs.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ttle Mari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996, Derek became a full-time MLB P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is First Year in The MLB, he battled .314 with 10 home-runs and his fielding percentage was .9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k helped the Yankees beat the Braves in the 1996 World S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ter won the 1996 Rookie of the Year A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k helped the Yankees win the World Series in 1998,1999, and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k was the 2000 World Series MV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Yankee opening day Rookie Shortstop since 19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313 career Post-Season Batting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2001, Derek got a new Nickname. His nickname is “Mr. Novemb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2003, Derek Jeter was named The Yankees Team Capt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September 11, 2009 Derek Jeter broke Lou Gehrig's Yankees' all-time hit reco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Majors.jpg"/>
          <p:cNvPicPr/>
          <p:nvPr/>
        </p:nvPicPr>
        <p:blipFill>
          <a:blip r:embed="rId1"/>
          <a:stretch/>
        </p:blipFill>
        <p:spPr>
          <a:xfrm>
            <a:off x="0" y="0"/>
            <a:ext cx="263196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Derek Jeter.jpg"/>
          <p:cNvPicPr/>
          <p:nvPr/>
        </p:nvPicPr>
        <p:blipFill>
          <a:blip r:embed="rId2"/>
          <a:stretch/>
        </p:blipFill>
        <p:spPr>
          <a:xfrm>
            <a:off x="6095880" y="227160"/>
            <a:ext cx="1600200" cy="12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Majors broken record.jpg"/>
          <p:cNvPicPr/>
          <p:nvPr/>
        </p:nvPicPr>
        <p:blipFill>
          <a:blip r:embed="rId3"/>
          <a:stretch/>
        </p:blipFill>
        <p:spPr>
          <a:xfrm>
            <a:off x="8077320" y="4114800"/>
            <a:ext cx="838080" cy="128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ope you learned a lot today about Derek Je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2:12:19Z</dcterms:created>
  <dc:creator>Lakeview School District</dc:creator>
  <dc:description/>
  <dc:language>en-US</dc:language>
  <cp:lastModifiedBy>Lakeview School District</cp:lastModifiedBy>
  <dcterms:modified xsi:type="dcterms:W3CDTF">2011-04-27T12:39:51Z</dcterms:modified>
  <cp:revision>10</cp:revision>
  <dc:subject/>
  <dc:title> Derek Jeter </dc:title>
</cp:coreProperties>
</file>